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3D8-85D5-41BE-ADCB-0C06B6B1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798-6F0C-43A4-902B-966555D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D2B-ED98-4E34-A907-92C60150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DED-16DF-4D75-974F-CE927BA0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825D-0624-456E-8321-66D24F07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836D-BF29-449F-98CB-CB538C6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227-54EF-4019-AB22-FE207DB2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F4E-845C-4641-A989-565152E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8585-9D3D-44CA-ADDD-E380754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9F4-600A-499C-8FD1-7FA4576F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DE0F-BACD-4F5A-AF48-A880EC6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9FD-6F94-4170-A7DE-7480EFCF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2B82-EA57-4AE8-93E6-5A2EA18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8583-D2E7-48DC-BBE2-91B81D8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E18-BC9D-4E7B-B7A6-4364946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AC3-6110-4E77-A503-F6536553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36EF-DA61-476D-A1E6-D208A71F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81F-B131-4714-8A36-B88C85F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482-F598-49FD-9D75-E4C70B1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5F5-536F-4BEC-AA1B-F9B0EB3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C93-1DCF-4C30-904F-396BC2F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D27-F1B6-4351-92EF-1165742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0F2-44B3-4F24-B8F3-B1BEF53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AEA-E121-4365-8E33-A37AEAD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779-23F6-48B5-B43D-2BE7E76F3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12E-BAC4-4B12-A6D5-67131CC6E6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Me llamo __________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   Clase 6 NH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La fecha es el 17 de octubre del 2011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Propósito # 12: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se clasifican las palabras según el número de silab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Actividad Inicial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vide las siguientes palabras en sila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lí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3300"/>
                </a:solidFill>
                <a:latin typeface="Arial"/>
              </a:rPr>
              <a:t>La clasificación según el número de silabas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palabras según el número de silabas se clasifican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o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i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li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Monosílaba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nosílab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aquellas palabras que tienen una sol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ez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         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Bisílaba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bisílab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aquellas palabras que tienen dos silab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-j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Ta-rr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Bo-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-p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Glo-b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-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Trisílaba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trisílab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aquellas palabras que tienen tres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-pe-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Ca-mi-no           Ma-le-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-der-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La-pi-ces          Re-lo-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Polisílaba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olisílab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aquellas palabras que tienen cuatro o más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-fri-a-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-to-mó-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-fri-ge-ra-do-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-lu-ro-s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-don-tó-lo-go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-li-cóp-te- 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Practic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 las palabras según el número de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ám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6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h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7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8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Tarea #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3:54:21Z</dcterms:created>
  <dc:creator>Helen Zumaeta</dc:creator>
  <dc:description/>
  <dc:language>en-US</dc:language>
  <cp:lastModifiedBy>Helen Zumaeta</cp:lastModifiedBy>
  <dcterms:modified xsi:type="dcterms:W3CDTF">2011-10-17T04:44:04Z</dcterms:modified>
  <cp:revision>2</cp:revision>
  <dc:subject/>
  <dc:title>Me llamo __________     Clase 6 NH La fecha es el 17 de octubre del 2011</dc:title>
</cp:coreProperties>
</file>